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07A07D1-2AAC-4C5F-B5B0-62362E506D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A7A-DD64-4749-BE12-DE94CCCB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4DB-CAE1-48E4-9862-B3EC85B0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42E-2D22-4288-BB3F-08CFCC5A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785-7903-4849-9488-FDBA0AB2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C1E-3103-4621-AAAF-FEE45178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4E8-8226-45D6-A3E3-3A2F6D4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954-87BE-4D7B-BEDC-9FA8A896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792-55D2-4C83-BAF8-1C916496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43C-886B-4135-9C1A-B831D2E3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BF6-C8EE-402A-9657-797C2827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B8D-618D-49C9-AFE6-A51DF2ED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9C1-D302-4D30-A878-D349E4E6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79F9-FDD9-40E5-B042-41053D134E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overty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000 new small enterprises developed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model business incubators operational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quire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aff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cro-credit provision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fram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1 yr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09960" y="990720"/>
            <a:ext cx="1753560" cy="5410080"/>
            <a:chOff x="7509960" y="990720"/>
            <a:chExt cx="175356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3992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5484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28640" y="548640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557840" y="320328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ective Accoun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Institutional/ Behavioural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perational/ skills, abilities, products &amp;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Human!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mployment and income generation 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titutional/ Behavioura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r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71600" y="25286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71600" y="359532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71600" y="464796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71600" y="15998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1-22T15:13:51Z</dcterms:modified>
  <cp:revision>5</cp:revision>
  <dc:subject/>
  <dc:title>PowerPoint Presentation</dc:title>
</cp:coreProperties>
</file>